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27F7-566C-4783-B9BC-C6728834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8498-A408-4949-AD9A-24039B6B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7401-08AD-4524-AF22-2E2194FB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014D-3525-4D16-8E39-77A9A157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10DE-C694-4013-8CB2-EFE0760C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12FC-3FC3-43AE-8312-0ECDD201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5A30-ABCB-407B-910A-DA8E497D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528F-A4CD-40D6-AC85-1BF315EE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FA4D-098A-4E07-BD98-6E282EC7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DC0C-E37B-41CD-9336-A49BF66E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291B-02DA-46C3-8467-38AB951C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1BED-0780-483B-B4F7-B2951643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7783-2153-4B31-BA62-CA2D6F158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luetooth.com/" TargetMode="External"/><Relationship Id="rId2" Type="http://schemas.openxmlformats.org/officeDocument/2006/relationships/hyperlink" Target="http://www.jini.org/" TargetMode="External"/><Relationship Id="rId3" Type="http://schemas.openxmlformats.org/officeDocument/2006/relationships/hyperlink" Target="http://www.javasoft.com/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™ and Java™ Technolog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Wireless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Jini™ Technology is n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ni is not  a nam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ni is not JavaBeans or Enterprise JavaBeans (EJ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ni is not 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ni is not a distributed operat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ve Key Featur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Jini™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te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very is the process of finding available lookup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ini discovery protocol is the means by which Jini-aware code finds Jini comm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ini™ Discovery Protoc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cast Request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cast Announcement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cast Discovery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up refers to the things that you can do with the lookup services that are determined via 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up is similar to a nam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s track of all services that have joined a Jini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s from a nam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cher set of semantics than provided by traditional nam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kup 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ing a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loading a Pro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a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sing refers to the process of allocating resources to community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ses are granted for a specified peri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es problems with network frag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t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te event is a technique for members of the community to notify one another of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ynchronous not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with events used in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and Remot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cal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ier to deliver events in the order that they were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deli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of delivery is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nder knows that it can safely deliver the event to the 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ot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 to deliver events in the order that they were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s may be undeli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of delivery is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nder does not know if it can safely deliver the event to the 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nsaction is a unit of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s are used to complete complex units of work that may fail before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hase com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s are not heavily used 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ni™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Bluetooth™ wireless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ng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Jini™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tooth, Jini™ technology, and the Wireless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&amp;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provid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ini™ Key Concept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very and Lookup establish a Jini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sing helps Jini communities ensure stable, self healing, and resilient networks in spite of inevitable network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s help Jini communities asynchronously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s help successfully complete complex operations and provide resolution for incomplete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luetooth™ Complements Jini™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ey concepts found in Jini™ technology are found in Bluetooth™ wireless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tooth™ technology is hardware what Jini™ technology is to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form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“standar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dely accep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™ and Jini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Bluetooth and Jini work we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 hoc net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ware specification complements software specification, and visa ve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ly accepted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tooth™ Wireless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bluetooth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ni™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jini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javasoft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tooth™ and Jini™ technologies compliment one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tooth™ technology excels at short duration ad hoc net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ni™ technology complements Bluetooth™ Wireless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of the features of Jini™ technology can be found within the Bluetooth™ 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ide Web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exuberance4me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mail cont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wood@exuberance4me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luetooth™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Technology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logy started by Eric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d afte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entury Viking k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Harald Blata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lobal wireless technology 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on”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 frequency 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xp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nded for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able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ktop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ph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™ Wireless Technology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band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it 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 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24 GHz globally available unlicensed ISM radio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range is 10 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 communication rate (721Kb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number of 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devices / pico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voice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read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Techn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5800" y="1981080"/>
          <a:ext cx="8001000" cy="4524480"/>
        </p:xfrm>
        <a:graphic>
          <a:graphicData uri="http://schemas.openxmlformats.org/drawingml/2006/table">
            <a:tbl>
              <a:tblPr/>
              <a:tblGrid>
                <a:gridCol w="1981080"/>
                <a:gridCol w="1600200"/>
                <a:gridCol w="1524240"/>
                <a:gridCol w="1371600"/>
                <a:gridCol w="15238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ature &amp; Fu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ra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2.11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reless L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eR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etooth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nection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rared, narrow be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read spectr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read spectr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read spectr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tr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tical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0 n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 G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 G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 G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mission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M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Mbp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M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Mbp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M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M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me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ical h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e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ed De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ce Chann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 bit physical 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 bit M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 bit M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 bit M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™ Technology Streng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expen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ior range compared with 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nidirectional, not requiring line of s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for ad hoc net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voice and data chann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 defined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number of implementing 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™ Technology Weakn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 communication rate (1 Mb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networking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number of network conn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and complex specific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ver 1000 p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™ Wireless Technology Application A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computing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d Sc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chroniz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te Synchro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n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quous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or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ic Boo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 Entertai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-vehicl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men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havior Enfor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e E-comme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Jini™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ni™ Technology is designed for reliable distributed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4T05:12:17Z</dcterms:created>
  <dc:creator>Michael T. Portwood</dc:creator>
  <dc:description/>
  <dc:language>en-US</dc:language>
  <cp:lastModifiedBy>General</cp:lastModifiedBy>
  <dcterms:modified xsi:type="dcterms:W3CDTF">2015-11-02T11:35:51Z</dcterms:modified>
  <cp:revision>4</cp:revision>
  <dc:subject/>
  <dc:title>Bluetooth™ and Jini™ Technologies in the Wireless Environment</dc:title>
</cp:coreProperties>
</file>